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17.jpeg" ContentType="image/jpeg"/>
  <Override PartName="/ppt/media/image45.wmf" ContentType="image/x-wmf"/>
  <Override PartName="/ppt/media/image26.wmf" ContentType="image/x-wmf"/>
  <Override PartName="/ppt/media/image46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3.jpeg" ContentType="image/jpeg"/>
  <Override PartName="/ppt/media/image28.wmf" ContentType="image/x-wmf"/>
  <Override PartName="/ppt/media/image10.png" ContentType="image/png"/>
  <Override PartName="/ppt/media/image47.png" ContentType="image/png"/>
  <Override PartName="/ppt/media/image49.jpeg" ContentType="image/jpeg"/>
  <Override PartName="/ppt/media/image34.wmf" ContentType="image/x-wmf"/>
  <Override PartName="/ppt/media/image42.wmf" ContentType="image/x-wmf"/>
  <Override PartName="/ppt/media/image43.jpeg" ContentType="image/jpeg"/>
  <Override PartName="/ppt/media/image44.wmf" ContentType="image/x-wmf"/>
  <Override PartName="/ppt/media/image40.wmf" ContentType="image/x-wmf"/>
  <Override PartName="/ppt/media/image48.jpeg" ContentType="image/jpeg"/>
  <Override PartName="/ppt/media/image31.wmf" ContentType="image/x-wmf"/>
  <Override PartName="/ppt/media/image38.jpeg" ContentType="image/jpeg"/>
  <Override PartName="/ppt/media/image39.wmf" ContentType="image/x-wmf"/>
  <Override PartName="/ppt/media/image5.wmf" ContentType="image/x-wmf"/>
  <Override PartName="/ppt/media/image35.wmf" ContentType="image/x-wmf"/>
  <Override PartName="/ppt/media/image9.jpeg" ContentType="image/jpeg"/>
  <Override PartName="/ppt/media/image11.jpeg" ContentType="image/jpeg"/>
  <Override PartName="/ppt/media/image8.wmf" ContentType="image/x-wmf"/>
  <Override PartName="/ppt/media/image27.jpeg" ContentType="image/jpeg"/>
  <Override PartName="/ppt/media/image50.jpeg" ContentType="image/jpeg"/>
  <Override PartName="/ppt/media/image13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0.jpeg" ContentType="image/jpeg"/>
  <Override PartName="/ppt/media/image37.wmf" ContentType="image/x-wmf"/>
  <Override PartName="/ppt/media/image23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C82B-64B8-441E-8DFF-6100AE3C8F05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 INTERNACIONALES AGRICOLAS: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XPORTACIONES DE PAPRIKA SIGUEN AUMENTAN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muchos pensábamos que la producción de páprika había alcanzado su techo, los volúmenes exportados vienen aumentando mes tras mes y los valores unitarios (FOB) alcanzan niveles que no se registraban desde el año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 datos hasta el 20 de mayo, las exportaciones alcanzan las 11 mil toneladas, faltando 4 mil para igualar las cifras de los años 2002 y 2003. De mantenerse esta situación, podríamos cerrar el año con 20 mil toneladas exportadas y superar los US$ 30 mill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145B-5361-4ADB-9240-B3356AB8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D5E-3788-438B-9145-07E27C1B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E0E-76CF-4DAD-A632-4F54F57E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83F0-AEA5-426C-8A5C-DE981007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F262-478F-455E-819F-3CAC0291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09FB-5BEF-4B37-9660-CA9BDBF9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BED8-08A7-4F68-8C95-4FFDAFBA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B1BF-E173-4FD2-86FF-E0133F07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7E0D-69F2-48AA-89D6-E38A2D1E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6CB5-BE14-4266-BAF0-B116DB3B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1B53-D304-4965-8E22-C34C8B1E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98D2-325F-4A3D-9909-26DC974D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3228-AB6C-4622-84BA-9C9BEECB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3690-7A74-44F8-B133-868A6DB1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0177-DA8C-4B24-82C9-3C7463D1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6150-E4DB-4A96-9DF7-8A4AC94E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4CC7-5CAF-4289-A61E-275D0EF7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D6E0A-B0AA-4D0F-8F31-CAFAFC27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89BE3-6E92-4C68-83F5-0F9075D4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BB1AB-B074-4B41-AB13-E41E7A36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64161-9A09-4873-8910-15936032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55E04-478D-41FF-8549-84032E92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9AC-DC51-40FD-8F30-5E14D1B4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31F5C-BD6C-45BB-8EC5-C045D3D4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CBAD8-72F3-4931-B0A5-8EA504A6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57B95-A26D-49BD-930E-2DCFB1EF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04B5A-F5A6-4118-B3E5-3B5D8CE8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174CD-D687-45AF-9972-92F3EC2C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F66C8-3DBD-4F53-9C13-C3B1C9D7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33CEB-DF9C-493C-9F5D-2D193453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BF5D5-D510-40D7-A54F-39D4837E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BE535-9231-4801-A8B4-C00925F9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9369B-876E-45B0-9C45-2371939D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AB3-FC24-4FCE-9BEE-BFBDD8D1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7A867-18CC-43F9-9AAA-F1617CC9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CC3F7-8956-4054-8EC7-A4AE0143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5A819-E8BE-4153-8732-F185839B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D455A-F16F-4FF9-973C-61EA9506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38643-C6E6-4CBF-8E64-205ACA3A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BC1B3-D532-40F7-B2D8-4E580F23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1D5C6-B613-4616-B057-269BDECE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5E7AA-9D39-4568-BC34-D2970E76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306A5-63DD-46CB-9960-74E27B2C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69D0E-57C9-410C-8CD6-A604D38C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DD7-23FD-4465-8171-7DD8BFED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8AB92-7D71-40DF-BE44-B8F75E22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0AAD5-D839-4AFE-A55C-9B487860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0F616-906E-458F-8719-3765A2F7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C5E6A-3F8D-4E32-8A95-5A731DF6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5DE25-5B98-41FB-A0DC-DEDAD733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C1BE9-4234-4271-84EA-26F15544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D0EEB-5EAA-49B8-BD70-10D81560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AB5E1-6438-4608-BD05-4C898BB3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14588-7CB0-4CD6-9CCC-0E29AF47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E1133-3561-4BA8-AE72-D51B229C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0E8-626C-4361-BEE3-88BDF6DE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EFBE4-5739-4F7C-8550-9DB54F22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2FEA7-7073-4CF7-844B-3014AF71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61BAF-800B-4B42-A04C-F9191251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5A842-4882-4D39-A7B7-0D2E8C5D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5C4BC-B0CB-4FFB-BB40-2E03E467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29F9A-74B7-4446-AAC8-E8A8EBF3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84E8A-1180-4675-85A8-C5C74623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3B2E8-4B5D-456A-A3B8-3A2E7C5A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1E426-B449-4710-8CB7-F80CFCFB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0E5B2-8038-419E-A88F-88CE6F0F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BBB-9CFA-4E3D-BE56-B534496A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88D54-55E5-4F5A-9A1B-C246D94E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2B076-7229-4BE6-A24F-80B921A0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424A0-F63D-4784-AA9B-8615ED60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B87F2-3CB2-40EA-94CF-76595531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6A0D9-41FA-43B1-867B-759FB799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9A0FC-369D-487F-AA6A-79E3493D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0C3DB-18F7-4E63-B058-2A0A9F03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3CEEA-34ED-49B9-98F0-CF1CCFC4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8AD69-876C-4433-857D-41238D90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D09AE-F8F8-4C70-9DED-515BBB74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A84-8A1D-4191-90E4-F14C1E03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6EF9F-8C83-45E7-B5E0-6A31FB5A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8FB2D-FFA5-45EB-A4B8-911DC2BF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2E18D-EDA2-4279-A746-44F1AA0F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C493B-8CE9-4355-805D-3FD7B8C6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B68C7-8DBA-460A-9748-369DF6FB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3B819-9C03-452A-BA83-0EBAF012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EB654-3AEC-42DE-BCA9-C7977BF0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B67D4-D428-4CA1-B049-3C06B980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D0EF9-9479-467A-BBE2-14B614EB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EA741-5566-4F47-A810-007445CE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86B3-AA85-4E0A-AE1F-D18FC4FF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97151-277F-4411-AC82-FAD3D838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2E955-FAE9-4DE6-BA8B-14469FE3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23C45-BBDF-4E5F-AA0B-C2AA52E7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7A831-35F9-463A-A082-5E9D4314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6EF6B-2FE0-4BD6-8683-8FDA0A8E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E9E9B-420F-4BAD-B9A6-7C735348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A52ED-7F8D-4039-9F36-7E846512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C7C9-FDFC-4150-893B-213B33420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2B5A-738B-45E1-B786-D18973544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8B65-8E2E-4239-9A56-74A51F97E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E191-9526-4038-908F-36B884C1CF5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4069-3B25-49ED-A154-E548BA1A1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49C6-B91E-4435-AD07-EC86F7631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BF85-C18D-4AD4-AF25-6AF99E128DD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1923-2653-4220-80FE-08EC069F12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449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50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45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46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6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47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47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48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50920" y="-171360"/>
            <a:ext cx="687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CAF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-1800" y="969840"/>
            <a:ext cx="9145800" cy="5785200"/>
            <a:chOff x="-1800" y="969840"/>
            <a:chExt cx="9145800" cy="5785200"/>
          </a:xfrm>
        </p:grpSpPr>
        <p:sp>
          <p:nvSpPr>
            <p:cNvPr id="49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94" name=""/>
            <p:cNvGraphicFramePr/>
            <p:nvPr/>
          </p:nvGraphicFramePr>
          <p:xfrm>
            <a:off x="0" y="969840"/>
            <a:ext cx="9144000" cy="536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69840"/>
                      <a:ext cx="9144000" cy="536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500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509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979640" y="0"/>
            <a:ext cx="716436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PORTACION DE PAPRIKA EN KG Y PRECIOS REFERENCIALES FOB US$/KG AÑOS 2002, 2003 Y 2004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7360" y="915840"/>
            <a:ext cx="8966160" cy="5895360"/>
            <a:chOff x="117360" y="915840"/>
            <a:chExt cx="8966160" cy="5895360"/>
          </a:xfrm>
        </p:grpSpPr>
        <p:graphicFrame>
          <p:nvGraphicFramePr>
            <p:cNvPr id="518" name=""/>
            <p:cNvGraphicFramePr/>
            <p:nvPr/>
          </p:nvGraphicFramePr>
          <p:xfrm>
            <a:off x="117360" y="915840"/>
            <a:ext cx="8966160" cy="53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7360" y="915840"/>
                      <a:ext cx="8966160" cy="53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0" name=""/>
            <p:cNvSpPr/>
            <p:nvPr/>
          </p:nvSpPr>
          <p:spPr>
            <a:xfrm>
              <a:off x="136440" y="6504120"/>
              <a:ext cx="534996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ADEX – ADUANAS           *Datos hasta jul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42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52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4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531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3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539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1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79280" y="43920"/>
            <a:ext cx="70930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CAO EN GRANO: PRECIO NACIONAL EN CHACRA Y PRECIO INTERNACIONAL (US$ / LIBRA) AÑOS 1993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40" y="836640"/>
            <a:ext cx="9112320" cy="6154920"/>
            <a:chOff x="1440" y="836640"/>
            <a:chExt cx="9112320" cy="6154920"/>
          </a:xfrm>
        </p:grpSpPr>
        <p:graphicFrame>
          <p:nvGraphicFramePr>
            <p:cNvPr id="546" name=""/>
            <p:cNvGraphicFramePr/>
            <p:nvPr/>
          </p:nvGraphicFramePr>
          <p:xfrm>
            <a:off x="1440" y="836640"/>
            <a:ext cx="9112320" cy="547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0" y="836640"/>
                      <a:ext cx="9112320" cy="54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8" name=""/>
            <p:cNvSpPr/>
            <p:nvPr/>
          </p:nvSpPr>
          <p:spPr>
            <a:xfrm>
              <a:off x="1440" y="6107040"/>
              <a:ext cx="181908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Fuentes: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Internacional : IC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Nacional : MINA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555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562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4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60" y="765000"/>
            <a:ext cx="9140040" cy="6092280"/>
            <a:chOff x="3960" y="765000"/>
            <a:chExt cx="9140040" cy="6092280"/>
          </a:xfrm>
        </p:grpSpPr>
        <p:sp>
          <p:nvSpPr>
            <p:cNvPr id="566" name=""/>
            <p:cNvSpPr/>
            <p:nvPr/>
          </p:nvSpPr>
          <p:spPr>
            <a:xfrm>
              <a:off x="3960" y="6519960"/>
              <a:ext cx="158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67" name=""/>
            <p:cNvGraphicFramePr/>
            <p:nvPr/>
          </p:nvGraphicFramePr>
          <p:xfrm>
            <a:off x="31680" y="1262160"/>
            <a:ext cx="9033120" cy="5214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680" y="1262160"/>
                      <a:ext cx="9033120" cy="521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9" name=""/>
            <p:cNvSpPr/>
            <p:nvPr/>
          </p:nvSpPr>
          <p:spPr>
            <a:xfrm>
              <a:off x="7391520" y="765000"/>
              <a:ext cx="1752480" cy="10670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58600" y="85572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80360" y="105408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244000" y="1054080"/>
              <a:ext cx="9000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03,8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13,7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gt; 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92000" y="-162360"/>
            <a:ext cx="6551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ECHE: PRODUCCION NACIONAL (TM) Y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ECIOS ESTABLO (US$ / KG) ene 02 – jul  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578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79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1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3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1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5" dur="5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3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7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1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5" dur="5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48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2692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SOCIACION CIVIL “TIERRA” MOLINO SAN MARCOS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Tar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553440" cy="333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58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59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362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979640" y="44280"/>
            <a:ext cx="7164360" cy="7261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78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79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1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712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TRUCTURA DEL VALOR AGREGADO DE LA MIN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73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7c80">
              <a:alpha val="5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419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9640" y="282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66520" y="2602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46836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-720" y="746280"/>
            <a:ext cx="9179640" cy="6337440"/>
            <a:chOff x="-720" y="746280"/>
            <a:chExt cx="9179640" cy="6337440"/>
          </a:xfrm>
        </p:grpSpPr>
        <p:sp>
          <p:nvSpPr>
            <p:cNvPr id="389" name=""/>
            <p:cNvSpPr/>
            <p:nvPr/>
          </p:nvSpPr>
          <p:spPr>
            <a:xfrm>
              <a:off x="0" y="4002120"/>
              <a:ext cx="9144000" cy="2855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2.-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Reactivos, bolas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acero, explosiv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576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Sustitu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de importa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1554120"/>
              <a:ext cx="36576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3.-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Carros mineros, celd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de flotación, molin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Reparación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576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Producción baj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licencias pa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rcados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6400" y="2362320"/>
              <a:ext cx="36576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3170160"/>
              <a:ext cx="18288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4.- Ingenie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y consulto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49320" y="3184560"/>
              <a:ext cx="1828800" cy="807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99360" y="3182760"/>
              <a:ext cx="184464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57600" y="3182760"/>
              <a:ext cx="36576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acional (salvo especialidade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4272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4638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5373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574056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1070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50054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720" y="404028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5.- Entor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560" y="4368960"/>
              <a:ext cx="756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nergí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200" y="5079960"/>
              <a:ext cx="74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Puert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280" y="5433840"/>
              <a:ext cx="976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Urbanism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40" y="5815080"/>
              <a:ext cx="76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Vialida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560" y="6181560"/>
              <a:ext cx="994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ducación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07160" y="4356000"/>
              <a:ext cx="18072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28800" y="4272120"/>
              <a:ext cx="0" cy="22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1600" y="4292640"/>
              <a:ext cx="6105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G. Electrógenos            C. Hidroeléctricas             Interconexión eléctrica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840" y="4699080"/>
              <a:ext cx="564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Agu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57600" y="4272120"/>
              <a:ext cx="0" cy="25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6400" y="4272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69200" y="4660920"/>
              <a:ext cx="4889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Sist. de bombeo                                   Redes de agua regional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20960" y="5027760"/>
              <a:ext cx="5091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Puertos múltiples                             Puertos mineros especializad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22480" y="5384880"/>
              <a:ext cx="7121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mpamentos              Desarrollos urbanos                        Integración urbana regional  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06520" y="5751360"/>
              <a:ext cx="595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Trochas                   Carreteras afirmadas                      Integración vial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1400" y="6118200"/>
              <a:ext cx="664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pacit. Laboral             Escuelas técnicas                          Universidades especializad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24480" y="53737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24480" y="57405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24480" y="610704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1.- Produ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ine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288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iner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576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Concentr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86400" y="746280"/>
              <a:ext cx="36576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tales refin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8800" y="746280"/>
              <a:ext cx="0" cy="6111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920" y="6448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960" y="6507000"/>
              <a:ext cx="136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Medio Ambient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72360" y="6197760"/>
              <a:ext cx="27716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Mejoramiento (revegetación,                                                                                                reforestación, etc.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0920" y="6522480"/>
              <a:ext cx="3924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Impacto negativo           Mínimo impact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441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42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4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18:03Z</dcterms:modified>
  <cp:revision>1179</cp:revision>
  <dc:subject/>
  <dc:title>Sin título de diapositiva</dc:title>
</cp:coreProperties>
</file>